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4.wmf" ContentType="image/x-wmf"/>
  <Override PartName="/ppt/media/image3.wmf" ContentType="image/x-wmf"/>
  <Override PartName="/ppt/media/image10.wmf" ContentType="image/x-wmf"/>
  <Override PartName="/ppt/media/image23.wmf" ContentType="image/x-wmf"/>
  <Override PartName="/ppt/media/image22.wmf" ContentType="image/x-wmf"/>
  <Override PartName="/ppt/media/image2.gif" ContentType="image/gif"/>
  <Override PartName="/ppt/media/image5.wmf" ContentType="image/x-wmf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6.png" ContentType="image/png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8271-6EAD-4966-BB4A-F13C18733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F262-AF18-4B68-BB90-43DFFB777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6148-E0F7-4E20-83D6-96FC6DE55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38AF-C246-461E-94AC-04E39ADD0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F6C4D-DCAC-4E32-BB13-53DD2A97B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D5485-70A0-4D27-B2C1-9F95F77C7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BBB5D-3611-4A15-9A93-95BFFBBE4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B1F72-FEF6-4FBF-AF56-F4199670A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09AF7-9081-4441-88E8-1A96C0F1F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8E39A-0AC9-4A3B-AF3E-CF2E15E86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F79A4-1F3A-48D2-B4AE-FF4CDFA5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DA00-A5E3-41A0-8687-CC2DB3267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CC594-DA54-43A0-87F1-1FECB597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8C8E1-BF86-4827-A3EA-EF08F290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64942-3D48-4859-A48B-A526B33CB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9FFB1-B938-4C90-8CAC-81429F49B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C0D39-68ED-4EA0-BB4D-94B84A6D2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F987-851D-4FA4-813C-3F0A9632B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597E-4856-4D60-A89E-708B6561B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F7B9-1B9A-4F3C-A853-4052DBDEF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F86B-BDA8-4B2A-BC38-1127BD140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3239-F7DF-41FB-B3AA-58913B6CA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683E-ABBB-483F-BE7A-80D6E82D9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F28E-6A26-427C-8946-4F0AD7B6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ACA94-58D6-43DC-9DCC-F21707811DD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F118C-A5A5-401B-99F7-47E8850E22A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1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2.bin"/><Relationship Id="rId16" Type="http://schemas.openxmlformats.org/officeDocument/2006/relationships/image" Target="../media/image9.wmf"/><Relationship Id="rId17" Type="http://schemas.openxmlformats.org/officeDocument/2006/relationships/image" Target="../media/image10.wmf"/><Relationship Id="rId1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560" y="2166480"/>
            <a:ext cx="87627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СЕМЬ КЛЮЧЕЙ</a:t>
            </a:r>
            <a:endParaRPr b="0" lang="en-US" sz="8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0948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75248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289548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411480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5334120" y="4724280"/>
            <a:ext cx="990360" cy="7048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6"/>
          <a:stretch/>
        </p:blipFill>
        <p:spPr>
          <a:xfrm>
            <a:off x="655308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7"/>
          <a:stretch/>
        </p:blipFill>
        <p:spPr>
          <a:xfrm>
            <a:off x="7696080" y="4724280"/>
            <a:ext cx="99072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240" y="167040"/>
            <a:ext cx="8915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ПОЗИТИВНОЕ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МЫШЛЕНИЕ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1676520"/>
            <a:ext cx="792468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Наконец, братия мои, что только истинно, что честно, что справедливо, что чисто, что любезно, что достославно, что только добродетель и похвала, о том помышляйте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 Филиппийцам 4: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523880" y="304920"/>
            <a:ext cx="762120" cy="54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429000" y="2362320"/>
            <a:ext cx="2367000" cy="35859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7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ДУШЕВНЫЙ ПОКОЙ И ИСЦЕЛЕНИЕ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1600200"/>
            <a:ext cx="8153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Спонтанная регрессия рака может быть тесно связана с душевным состоянием свободным от беспокойства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3257640"/>
            <a:ext cx="8001000" cy="28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Не требовательная молитва о конкретном исходе, включая устранения рака, предшествует исцелению, а смиренное молитвенное состояние, посвящение Богу и принятие Его воли»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ари Доссей «Исцеляющие слова: сила                          молитвы и медицинская практика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304200"/>
            <a:ext cx="77724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c00"/>
                </a:solidFill>
                <a:latin typeface="Arial Black"/>
              </a:rPr>
              <a:t>ПОМОЩЬ ДРУГИМ</a:t>
            </a:r>
            <a:endParaRPr b="0" lang="en-US" sz="5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«Раздели с голодным хлеб твой, и скитающихся бедных введи в дом; когда увидишь нагого, одень его, и от единокровного твоего не укрывайся. Тогда откроется, как заря, свет твой, и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исцеление твое скоро возрастет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, и правда твоя пойдет пред тобою, и слава Господня будет сопровождать тебя»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Исаия 28:7,8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Black"/>
              </a:rPr>
              <a:t>ДОВЕРИЕ БОГУ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990720"/>
            <a:ext cx="5715000" cy="54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«Мы отовсюду притесняемы, но не стеснены; мы в отчаянных обстоятельствах, но не отчаиваемся; мы гонимы, но не оставлены; низлагаемы, но не погибаем»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-е Коринфянам 4: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495680" y="2743200"/>
            <a:ext cx="4648320" cy="34099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1143000" y="22860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303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ХРИСТОС В СЕРДЦЕ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5334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то отлучит нас от любви Божией: скорбь, или теснота, или гонение, или голод, или нагота, или опасность, или меч?… Но все сие преодолеваем силою Возлюбившего нас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Римлянам 8:35,3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j0260360" descr=""/>
          <p:cNvPicPr/>
          <p:nvPr/>
        </p:nvPicPr>
        <p:blipFill>
          <a:blip r:embed="rId1"/>
          <a:stretch/>
        </p:blipFill>
        <p:spPr>
          <a:xfrm>
            <a:off x="5867280" y="1143000"/>
            <a:ext cx="2622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303840"/>
            <a:ext cx="77724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Arial Black"/>
              </a:rPr>
              <a:t>СЕМЬ КЛЮЧЕЙ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Разумное приспособл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Здоровый образ жизн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ланирова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Уверенность в будуще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озитивное мышл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омощь други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Доверие Бог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28600" y="173052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228600" y="236232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152280" y="297180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152280" y="358128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5"/>
          <a:stretch/>
        </p:blipFill>
        <p:spPr>
          <a:xfrm>
            <a:off x="152280" y="411480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6"/>
          <a:stretch/>
        </p:blipFill>
        <p:spPr>
          <a:xfrm>
            <a:off x="152280" y="472428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7"/>
          <a:stretch/>
        </p:blipFill>
        <p:spPr>
          <a:xfrm>
            <a:off x="152280" y="5334120"/>
            <a:ext cx="45720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1212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СТРЕССОРЫ И СТРЕСС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286000" y="2362320"/>
            <a:ext cx="47242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99cc00"/>
                </a:solidFill>
                <a:latin typeface="Arial"/>
              </a:rPr>
              <a:t>Давление извне</a:t>
            </a:r>
            <a:endParaRPr b="1" lang="en-US" sz="2400" spc="1" strike="noStrike">
              <a:ln w="0">
                <a:noFill/>
              </a:ln>
              <a:solidFill>
                <a:srgbClr val="99cc00"/>
              </a:solidFill>
              <a:latin typeface="Arial"/>
              <a:ea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3959280"/>
            <a:ext cx="281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Стресс – это ваша реакция на стрессо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80880" y="3733920"/>
            <a:ext cx="2746440" cy="24368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6588000" y="3962520"/>
            <a:ext cx="2082960" cy="22906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495680" y="1219320"/>
            <a:ext cx="0" cy="1371600"/>
          </a:xfrm>
          <a:prstGeom prst="line">
            <a:avLst/>
          </a:prstGeom>
          <a:ln w="384120">
            <a:solidFill>
              <a:srgbClr val="cc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7560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РЕАКЦИЯ ОРГАНИЗМА НА ВНЕЗАПНЫЙ СТРЕССОР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вышение д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чащение сердцеби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силение сокращения серд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силение кровотока к активным мышца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слабление кровотока в областях, не задействованных в ответной реа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сширение зрач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сширение бронх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величение силы мыш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ысвобождение глюкозы печень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вышение умственной деятель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скорение метаболиз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2"/>
          <a:stretch/>
        </p:blipFill>
        <p:spPr>
          <a:xfrm>
            <a:off x="6248520" y="3809880"/>
            <a:ext cx="95400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"/>
          <p:cNvGraphicFramePr/>
          <p:nvPr/>
        </p:nvGraphicFramePr>
        <p:xfrm>
          <a:off x="6172200" y="1371600"/>
          <a:ext cx="1676520" cy="1233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172200" y="1371600"/>
                    <a:ext cx="1676520" cy="12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7162920" y="5181480"/>
          <a:ext cx="1981080" cy="8906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162920" y="5181480"/>
                    <a:ext cx="1981080" cy="8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1" name="hm00246_" descr=""/>
          <p:cNvPicPr/>
          <p:nvPr/>
        </p:nvPicPr>
        <p:blipFill>
          <a:blip r:embed="rId17"/>
          <a:stretch/>
        </p:blipFill>
        <p:spPr>
          <a:xfrm>
            <a:off x="7696080" y="2666880"/>
            <a:ext cx="9622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СТАДИИ СТРЕССА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Реакция тревог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остояние сопротив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тадия истощ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943600" y="1600200"/>
            <a:ext cx="1600200" cy="14209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7315200" y="2895480"/>
            <a:ext cx="1523880" cy="15051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5791320" y="4495680"/>
            <a:ext cx="1755720" cy="14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689720" cy="4572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БОЛЕЗНИ СВЯЗАННЫЕ СО СТРЕССОМ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560" y="228600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ердечно-сосудистые заболе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епресс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тенокард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иаб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уберкулё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евматоидный артри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иперто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Язв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48320" y="22096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оловные бо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ллерг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осту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едменструальный синдр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Бородав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ыпь на кож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ыпадение воло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даг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ерпе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137160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Болезни, одной из причин которых может быть стресс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762120" y="4267080"/>
            <a:ext cx="3886200" cy="1974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83160"/>
            <a:ext cx="792468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c00"/>
                </a:solidFill>
                <a:latin typeface="Arial Black"/>
              </a:rPr>
              <a:t>РАЗУМНОЕ ПРИСПОСОБЛЕНИЕ</a:t>
            </a:r>
            <a:endParaRPr b="0" lang="en-US" sz="5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6477120" y="3429000"/>
            <a:ext cx="1828800" cy="17478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7086600" y="5067360"/>
            <a:ext cx="1143000" cy="11048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762120" y="1752480"/>
            <a:ext cx="81532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разумное приспособление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подразумевает либо устранение стрессора, либо приспособление к нем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неразумное приспособление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– избегание или отрицание проблем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1752480" y="22860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57200" y="3124080"/>
            <a:ext cx="2895480" cy="258156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9400"/>
            <a:ext cx="777240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cc00"/>
                </a:solidFill>
                <a:latin typeface="Arial Black"/>
              </a:rPr>
              <a:t>ЗДОРОВЫЙ ОБРАЗ </a:t>
            </a:r>
            <a:r>
              <a:rPr b="1" lang="en-US" sz="5000" spc="-1" strike="noStrike">
                <a:solidFill>
                  <a:srgbClr val="ffcc00"/>
                </a:solidFill>
                <a:latin typeface="Arial Black"/>
              </a:rPr>
              <a:t>ЖИЗНИ</a:t>
            </a:r>
            <a:endParaRPr b="0" lang="en-US" sz="5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ОЛНОЦЕННОЕ ПИТ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УПРАЖН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5759280" y="2590920"/>
            <a:ext cx="1175040" cy="36576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5"/>
          <a:stretch/>
        </p:blipFill>
        <p:spPr>
          <a:xfrm>
            <a:off x="2286000" y="4191120"/>
            <a:ext cx="2133720" cy="19987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6"/>
          <a:stretch/>
        </p:blipFill>
        <p:spPr>
          <a:xfrm>
            <a:off x="304920" y="152280"/>
            <a:ext cx="76176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88360"/>
            <a:ext cx="77724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c00"/>
                </a:solidFill>
                <a:latin typeface="Arial Black"/>
              </a:rPr>
              <a:t>ПЛАНИРОВАНИЕ</a:t>
            </a:r>
            <a:endParaRPr b="0" lang="en-US" sz="5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981080" y="1218960"/>
            <a:ext cx="685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Ибо кто из вас, желая построить башню, не сядет прежде и не вычислит издержек, имеет ли он, что нужно для совершения ее, дабы, когда положит основание и не возможет совершить, все видящие не стали смеяться над ним».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уки 14:28,2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533520" y="1066680"/>
            <a:ext cx="2855880" cy="49532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9480" y="38088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3031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НЕ БЕСПОКОЙТЕСЬ О БУДУЩЕМ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0" name=""/>
          <p:cNvSpPr/>
          <p:nvPr/>
        </p:nvSpPr>
        <p:spPr>
          <a:xfrm>
            <a:off x="609480" y="2268360"/>
            <a:ext cx="80773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Итак не заботьтесь о завтрашнем дне, ибо завтрашний сам будет заботиться о своем: довольно для каждого дня своей заботы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Евангелие от Матфея 6:3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0T12:53:51Z</dcterms:created>
  <dc:creator>Ostapenco</dc:creator>
  <dc:description/>
  <dc:language>en-US</dc:language>
  <cp:lastModifiedBy>Our Home</cp:lastModifiedBy>
  <dcterms:modified xsi:type="dcterms:W3CDTF">2001-04-08T15:49:49Z</dcterms:modified>
  <cp:revision>30</cp:revision>
  <dc:subject/>
  <dc:title>СТРЕСС</dc:title>
</cp:coreProperties>
</file>